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FONDOMUSICAL%203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7B4-2518-4DD9-9E39-09275F46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FD7-0234-4683-B95C-5806B25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5F8-0215-47DC-BDB2-C570E0C8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952-EE33-47B8-AD89-613A4783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6FB3-BEE5-4C9E-86E1-7C059191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A47-B286-4EEF-A868-C0C9D653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E2A4-B175-4A12-B20D-B4950364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F962-5780-4224-B4DA-7DD5435F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1319-45D6-4589-B0FA-61E1F3D4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655A-0BC3-4F39-A4AD-5BFC6A7C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6397-58FA-451C-AD53-1FFEDCD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970-3F2E-406E-A2E7-11C48DA1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4DE8-299E-4717-9B84-05CE5EEA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2521-9E09-4E2A-A2BE-DE4B310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C874-2A04-445F-ABAA-40CF6755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24EF-FB49-47DF-AD10-4E122466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F8EE-61EB-4763-84F9-E2D4E012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7D6-CB25-4EDD-928A-F471FFC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3E4-2F1F-4FE8-9F08-E66C4515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7FC-BBA7-4402-A992-C1578435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9F7-B824-4DAE-8CC7-8C9BA75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B71-BCF6-42AD-A1A1-3F9D1931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0E9-8882-49E6-B53E-F7EE803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28C-462C-4522-B495-3BAD381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0D05-E647-4AE8-BFAA-2C30FAB60F7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EA5-8563-41A1-B4CF-A7ABD34E778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FONDOMUSICAL%2032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LA HERMOSURA DE LOS NÚMERO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2362320" cy="58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6165720"/>
            <a:ext cx="2448000" cy="58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716360" y="6165720"/>
            <a:ext cx="2303640" cy="58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020000" y="6165720"/>
            <a:ext cx="212400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Mira esto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con atenció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8 + 1 =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x 8 + 2 = 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 x 8 + 3 = 9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 x 8 + 4 = 987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 x 8 + 5 = 987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 x 8 + 6 = 9876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 x 8 + 7 = 987654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 x 8 + 8 = 987654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9 x 8 + 9 = 98765432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¿Y qué te parece     este otro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9 + 2 =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x 9 + 3 = 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 x 9 + 4 = 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 x 9 + 5 = 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 x 9 + 6 = 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 x 9 + 7 = 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 x 9 + 8 = 1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 x 9 + 9 = 11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3456789 x 9 +10= 1111111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ste está mejo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x 9 + 7 = 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 x 9 + 6 = 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 x 9 + 5 = 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 x 9 + 4 = 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 x 9 + 3 = 8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4 x 9 + 2 = 88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43 x 9 + 1 = 888888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8765432 x 9 + 0 = 88888888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illante, ¿verdad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Mira la simetría               de este otro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x 1 =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x 11 = 1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 x 111 = 12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 x 1111 = 123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 x 11111 = 1234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 x 111111 = 123456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1 x 1111111 = 12345676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11 x 11111111 = 12345678765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1111111 x 111111111=1234567898765432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33:28Z</dcterms:created>
  <dc:creator>Dir. General</dc:creator>
  <dc:description/>
  <dc:language>en-US</dc:language>
  <cp:lastModifiedBy>ETXEA</cp:lastModifiedBy>
  <dcterms:modified xsi:type="dcterms:W3CDTF">2009-12-11T12:05:58Z</dcterms:modified>
  <cp:revision>2</cp:revision>
  <dc:subject/>
  <dc:title>LA HERMOSURA DE LOS NÚMEROS</dc:title>
</cp:coreProperties>
</file>